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ABE-AB1D-4839-AC1B-0A95AD8D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A07-CED6-4CEC-B176-8EFD19B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5A6-1AFE-4EC3-8011-3CFE16B8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43B-E7AA-413B-9DBF-E67D114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7E9-4134-475D-923D-6E14F1F5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363-086C-44D7-BE18-6E78BF8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339-7E1F-417D-BCFB-D1C5F5A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029-53AC-4EE3-8CD8-FB4A94B0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1E4-29D2-4829-9EA8-B37E7E3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085-BCDC-4BD4-B738-D6AD908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5C5-556B-4765-9F3C-10A0A64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5FA-946C-4302-9CE3-14FDB2C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1167-EC74-4F0A-8237-A99030DB722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Activ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Middle Indicative or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δουλος ἀπολυθε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λεψαντες τα πονηρ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ῃ τῃ ἡμερᾳ ὁ θε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8-10-06T17:58:46Z</dcterms:modified>
  <cp:revision>26</cp:revision>
  <dc:subject/>
  <dc:title>Slide 1</dc:title>
</cp:coreProperties>
</file>